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5F1-553F-459F-A80C-E5F9D5A2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B01-F215-4D6E-BDA6-4146C60C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4F4-2FC7-483F-ACD7-61E0A981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697-33B9-4968-AA48-CAE3E414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A3B-0E74-42B3-B184-74E1482D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8B8-121D-4C1A-A608-E2800466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18B-8422-4E89-A61D-B1BCE711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D0A-4A01-40DF-A3A3-C10B3DB2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B31-7B34-4985-9A2D-A1FA4584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F42-A626-40AB-9C7D-47A07A90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A15-E17C-4052-A118-87210A33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C52-3B04-4F8D-98B9-F095FFFE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67A2-EF50-4739-AAA9-0C687D48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114264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ate of Kan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nate Bill 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leco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Bill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David Ke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T&amp;T Kan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hoices in voice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raditional wireline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ompetitive Local Exchange Companies (CLE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Wireless (cellula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abl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Voice over Internet Protocol (Vo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During the past ye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ompetition continues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Regulatory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urrounding states updated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O, IA, MO, OK, 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SB 350--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Price deregulates bundles state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Price deregulates cities with more than 75K access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reates bright line (competitive trigger) test for pricing freedoms in cities less than 75K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For residential customers: facilities-based competitor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Consumer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ompetition will keep prices i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Lifeline service remains price cap reg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KCC resumes price regulation if competitive criteria is not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services remain subject to KCC oversight for quality of service, 911, KUSF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Consumer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arket pricing works.  The marketplace is a better regulator than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ng distance:  32 cents/minute to unlimited for $20 or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ireless:  47 cents/minute to less than 10 c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roadband:  $50/month to less than 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one of these services face pricing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4:31:32Z</dcterms:created>
  <dc:creator>Paul Snider</dc:creator>
  <dc:description/>
  <dc:language>en-US</dc:language>
  <cp:lastModifiedBy>Kansas Legislature</cp:lastModifiedBy>
  <dcterms:modified xsi:type="dcterms:W3CDTF">2006-01-24T16:02:08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87740686</vt:r8>
  </property>
  <property fmtid="{D5CDD505-2E9C-101B-9397-08002B2CF9AE}" pid="3" name="_AuthorEmail">
    <vt:lpwstr>ps9737@att.com</vt:lpwstr>
  </property>
  <property fmtid="{D5CDD505-2E9C-101B-9397-08002B2CF9AE}" pid="4" name="_AuthorEmailDisplayName">
    <vt:lpwstr>SNIDER, PAUL (SWBT)</vt:lpwstr>
  </property>
  <property fmtid="{D5CDD505-2E9C-101B-9397-08002B2CF9AE}" pid="5" name="_EmailSubject">
    <vt:lpwstr>AT&amp;T materials for SB 350</vt:lpwstr>
  </property>
  <property fmtid="{D5CDD505-2E9C-101B-9397-08002B2CF9AE}" pid="6" name="_PreviousAdHocReviewCycleID">
    <vt:r8>-915836096</vt:r8>
  </property>
  <property fmtid="{D5CDD505-2E9C-101B-9397-08002B2CF9AE}" pid="7" name="_ReviewingToolsShownOnce">
    <vt:lpwstr/>
  </property>
</Properties>
</file>