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E07-4A6E-4F42-9C7D-624B0F9A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DFF-EE2D-47E6-81A4-C8B3EE24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4E5-F1EF-4303-8669-DF25F645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D45-1797-42C9-801F-78CBD27B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1F4-37E0-4654-8F0E-13D1677F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846-3FF0-44E7-B6A0-55B1CB67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8D2-DC05-40C7-9B1E-9411EE4A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619-E899-43C2-B573-191033C6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FC4-D796-456C-88A2-F7E98CE5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D7B-7BC6-41B9-92DB-AAD6F37A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F6C-718B-4A22-9AFA-878C1B9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DA9-6334-4C76-BB0C-9FB8C8A3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63FB-EC5E-496E-910F-975CE874C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t. Thicknes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s Consu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2098" t="0" r="0" b="22223"/>
          <a:stretch/>
        </p:blipFill>
        <p:spPr>
          <a:xfrm>
            <a:off x="1447920" y="1828800"/>
            <a:ext cx="5181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t. Thickness, consumers, gas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2098" t="0" r="0" b="22223"/>
          <a:stretch/>
        </p:blipFill>
        <p:spPr>
          <a:xfrm>
            <a:off x="1752480" y="175248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eld Pressure &amp; Pip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2098" t="0" r="0" b="22223"/>
          <a:stretch/>
        </p:blipFill>
        <p:spPr>
          <a:xfrm>
            <a:off x="1447920" y="1447920"/>
            <a:ext cx="6705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m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1T23:54:26Z</dcterms:created>
  <dc:creator>MWT</dc:creator>
  <dc:description/>
  <dc:language>en-US</dc:language>
  <cp:lastModifiedBy>lhaynos</cp:lastModifiedBy>
  <cp:lastPrinted>2000-10-03T20:14:44Z</cp:lastPrinted>
  <dcterms:modified xsi:type="dcterms:W3CDTF">2006-03-13T14:13:10Z</dcterms:modified>
  <cp:revision>76</cp:revision>
  <dc:subject/>
  <dc:title>H2S</dc:title>
</cp:coreProperties>
</file>