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060-D81E-4AD3-AF7C-AF28A1D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983-164B-47A1-B703-4DEC454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A62-0971-4340-8273-F7072749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BF3-BDE3-4F9A-87AC-F6B42DD5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97F-16E5-4361-95C9-0D2744C1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5E0-F425-43B9-94EB-A075AC0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C4E-C169-465D-9F31-DFD76A8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74A-CA11-48FC-B762-6BE952D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B1A-A8FD-4989-ADF6-126FD28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C4C-BAFE-4266-BF8B-5627AF5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164-5158-4D1F-B095-8487D01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CFB-2788-4B53-92AE-BF0ED05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70E-D3BC-4775-9973-7885EF10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1426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te of 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nate Bill 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leco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Bill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avid Ke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T&amp;T 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hoices in voice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raditional wireline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mpetitive Local Exchange Companies (CLE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ireless (cellul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bl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Voice over Internet Protocol (Vo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During the past ye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mpetition continues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gulatory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urrounding states updated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, IA, MO, OK,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B 350--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rice deregulates bundles state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rice deregulates cities with more than 75K access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reates bright line (competitive trigger) test for pricing freedoms in cities less than 75K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or residential customers: facilities-based competitor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onsumer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mpetition will keep prices i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ifeline service remains price cap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KCC resumes price regulation if competitive criteria is no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services remain subject to KCC oversight for quality of service, 911, KUSF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Consumer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rket pricing works.  The marketplace is a better regulator than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ng distance:  32 cents/minute to unlimited for $20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reless:  47 cents/minute to less than 10 c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roadband:  $50/month to less than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one of these services face pricing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4:31:32Z</dcterms:created>
  <dc:creator>Paul Snider</dc:creator>
  <dc:description/>
  <dc:language>en-US</dc:language>
  <cp:lastModifiedBy>Kansas Legislature</cp:lastModifiedBy>
  <dcterms:modified xsi:type="dcterms:W3CDTF">2006-01-24T16:02:08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7740686</vt:r8>
  </property>
  <property fmtid="{D5CDD505-2E9C-101B-9397-08002B2CF9AE}" pid="3" name="_AuthorEmail">
    <vt:lpwstr>ps9737@att.com</vt:lpwstr>
  </property>
  <property fmtid="{D5CDD505-2E9C-101B-9397-08002B2CF9AE}" pid="4" name="_AuthorEmailDisplayName">
    <vt:lpwstr>SNIDER, PAUL (SWBT)</vt:lpwstr>
  </property>
  <property fmtid="{D5CDD505-2E9C-101B-9397-08002B2CF9AE}" pid="5" name="_EmailSubject">
    <vt:lpwstr>AT&amp;T materials for SB 350</vt:lpwstr>
  </property>
  <property fmtid="{D5CDD505-2E9C-101B-9397-08002B2CF9AE}" pid="6" name="_PreviousAdHocReviewCycleID">
    <vt:r8>-915836096</vt:r8>
  </property>
  <property fmtid="{D5CDD505-2E9C-101B-9397-08002B2CF9AE}" pid="7" name="_ReviewingToolsShownOnce">
    <vt:lpwstr/>
  </property>
</Properties>
</file>