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F53-3085-49D2-ACF1-DAC7E75D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25F-0234-4D48-826A-0656A231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61F-82F7-4E4B-BCBC-6523C835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6AC-29A3-42DD-A474-A889F7A0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5B2-AF1D-4908-9F7D-9036E708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371-39F9-4741-A6BE-B9EA65FD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B46-F38E-4BA4-B2F8-DFDE78A8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447-DB1C-494E-AFC3-01A07FC3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F2A-9742-4C02-BBA5-5AC78891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102-C166-4D87-A074-3136F501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34C-564E-4F26-8599-DEA83833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F8C-388F-47EC-9F10-D5F70D7B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A514-61B0-42DF-B871-B8948841F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t. Thickness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s Consu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2098" t="0" r="0" b="22223"/>
          <a:stretch/>
        </p:blipFill>
        <p:spPr>
          <a:xfrm>
            <a:off x="1447920" y="1828800"/>
            <a:ext cx="5181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t. Thickness, consumers, gas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2098" t="0" r="0" b="22223"/>
          <a:stretch/>
        </p:blipFill>
        <p:spPr>
          <a:xfrm>
            <a:off x="1752480" y="175248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eld Pressure &amp; Pip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2098" t="0" r="0" b="22223"/>
          <a:stretch/>
        </p:blipFill>
        <p:spPr>
          <a:xfrm>
            <a:off x="1447920" y="1447920"/>
            <a:ext cx="6705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m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1T23:54:26Z</dcterms:created>
  <dc:creator>MWT</dc:creator>
  <dc:description/>
  <dc:language>en-US</dc:language>
  <cp:lastModifiedBy>lhaynos</cp:lastModifiedBy>
  <cp:lastPrinted>2000-10-03T20:14:44Z</cp:lastPrinted>
  <dcterms:modified xsi:type="dcterms:W3CDTF">2006-03-13T14:13:10Z</dcterms:modified>
  <cp:revision>76</cp:revision>
  <dc:subject/>
  <dc:title>H2S</dc:title>
</cp:coreProperties>
</file>